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4C1B-3984-446A-9ADB-08B87F66EDC3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5B2D-E344-4EDC-891A-B23182132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21E1-84AE-4564-8FE5-2FEDF51A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2A4-633E-4AFA-B423-B5DEF905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40A-6216-4607-8698-3840BD08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5C4-BA2B-43A1-A142-B4B9533A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A96E-D965-4443-B85A-E5CB7086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E3C-F08C-4687-9B00-23640310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027-A088-41D7-8A79-98566F1E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C0D5-D5FF-459F-AFD0-33740E82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A1E-C223-4B67-B00B-FACC1149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C69-BC9E-4807-8033-22B51A0F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FB0-D798-4050-BA41-48BE8FB6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846-0B86-4AF9-A36C-9857EEC4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F44C-F42E-405A-8BD3-4AF6324ACC10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143000" y="2571840"/>
            <a:ext cx="6643800" cy="599760"/>
            <a:chOff x="1143000" y="2571840"/>
            <a:chExt cx="6643800" cy="59976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13096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4429080" y="2590920"/>
              <a:ext cx="15145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643120" y="2571840"/>
              <a:ext cx="17002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143000" y="2590920"/>
              <a:ext cx="14479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l Assemb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071880" y="304920"/>
              <a:ext cx="342900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pening General Assemb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ointing Committe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357120" y="1600200"/>
            <a:ext cx="8429760" cy="971640"/>
            <a:chOff x="357120" y="1600200"/>
            <a:chExt cx="84297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205416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643280" y="1600200"/>
              <a:ext cx="20163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he-IL" sz="1800" spc="-1" strike="noStrike">
                  <a:solidFill>
                    <a:srgbClr val="000000"/>
                  </a:solidFill>
                  <a:latin typeface="Calibri"/>
                </a:rPr>
                <a:t>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50020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5712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86000" y="3214800"/>
            <a:ext cx="4589280" cy="1062360"/>
            <a:chOff x="2286000" y="3214800"/>
            <a:chExt cx="4589280" cy="1062360"/>
          </a:xfrm>
        </p:grpSpPr>
        <p:sp>
          <p:nvSpPr>
            <p:cNvPr id="70" name="Text Box 24"/>
            <p:cNvSpPr/>
            <p:nvPr/>
          </p:nvSpPr>
          <p:spPr>
            <a:xfrm>
              <a:off x="3803760" y="3573360"/>
              <a:ext cx="146700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eering committ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86000" y="3214800"/>
              <a:ext cx="142884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071960" y="32148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143320" y="3214800"/>
              <a:ext cx="22068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75080" y="3278160"/>
              <a:ext cx="160020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929040" y="4869000"/>
            <a:ext cx="1328760" cy="1731600"/>
            <a:chOff x="3929040" y="4869000"/>
            <a:chExt cx="1328760" cy="1731600"/>
          </a:xfrm>
        </p:grpSpPr>
        <p:sp>
          <p:nvSpPr>
            <p:cNvPr id="76" name="Text Box 30"/>
            <p:cNvSpPr/>
            <p:nvPr/>
          </p:nvSpPr>
          <p:spPr>
            <a:xfrm>
              <a:off x="3929040" y="5181480"/>
              <a:ext cx="13287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1860840"/>
            <a:chOff x="5786280" y="4724280"/>
            <a:chExt cx="3129120" cy="186084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10479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comes a suggestion to the National &amp; World Vei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he snif is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3960" y="4524120"/>
            <a:ext cx="2974680" cy="2061000"/>
            <a:chOff x="453960" y="4524120"/>
            <a:chExt cx="2974680" cy="206100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252900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ust be corrected by representatives of the committee and the steering committe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4120"/>
              <a:ext cx="2667240" cy="1587960"/>
            </a:xfrm>
            <a:prstGeom prst="bentConnector3">
              <a:avLst>
                <a:gd name="adj1" fmla="val -86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5:22:00Z</dcterms:created>
  <dc:creator>Ilan</dc:creator>
  <dc:description/>
  <dc:language>en-US</dc:language>
  <cp:lastModifiedBy>Ilan</cp:lastModifiedBy>
  <dcterms:modified xsi:type="dcterms:W3CDTF">2010-10-24T05:23:10Z</dcterms:modified>
  <cp:revision>1</cp:revision>
  <dc:subject/>
  <dc:title>Slide 1</dc:title>
</cp:coreProperties>
</file>